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BA7-95E9-4240-907C-ED53A67D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312-80B3-430F-B01A-BB4DA8BD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280-5467-4403-B226-D6662B9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EEE-1AB0-4455-AFB3-084E01E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B50-2918-4B49-A443-81002B7A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47C-BC9E-468D-8140-B9736E18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798-3935-409C-8004-A0365EFB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08C-2884-4C03-9F30-94684C9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8B1-E91A-4EDC-B33D-A9DFE06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14F-DA96-4BAE-9A77-E655605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D94-7C70-4BF4-8568-67A227D5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F6C-38AB-41F2-906C-C76228FF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D1D-3504-434A-8A0A-BBC225E401D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x and the Duck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6280" y="2160"/>
            <a:ext cx="59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Music f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i="1" lang="hu-H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Fojtovics Márta, Peszler Krisz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zövegdoboz 4"/>
          <p:cNvSpPr/>
          <p:nvPr/>
        </p:nvSpPr>
        <p:spPr>
          <a:xfrm>
            <a:off x="2028240" y="5000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OUP  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Kép 5" descr="4.jpg"/>
          <p:cNvPicPr/>
          <p:nvPr/>
        </p:nvPicPr>
        <p:blipFill>
          <a:blip r:embed="rId1"/>
          <a:stretch/>
        </p:blipFill>
        <p:spPr>
          <a:xfrm>
            <a:off x="4643280" y="2571840"/>
            <a:ext cx="2357640" cy="365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’m going to tell you a ta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an astute and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ightenin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x and a credulous duckling. Charlie, the duckling lived in a village, but all he wanted to do was to visit the for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artalom helye 3" descr="Roka(kozepes).jpg"/>
          <p:cNvPicPr/>
          <p:nvPr/>
        </p:nvPicPr>
        <p:blipFill>
          <a:blip r:embed="rId1"/>
          <a:stretch/>
        </p:blipFill>
        <p:spPr>
          <a:xfrm>
            <a:off x="642960" y="2786040"/>
            <a:ext cx="3143160" cy="2359080"/>
          </a:xfrm>
          <a:prstGeom prst="rect">
            <a:avLst/>
          </a:prstGeom>
          <a:ln w="0">
            <a:noFill/>
          </a:ln>
        </p:spPr>
      </p:pic>
      <p:pic>
        <p:nvPicPr>
          <p:cNvPr id="47" name="Kép 4" descr="kacsa1(1).jpg"/>
          <p:cNvPicPr/>
          <p:nvPr/>
        </p:nvPicPr>
        <p:blipFill>
          <a:blip r:embed="rId2"/>
          <a:stretch/>
        </p:blipFill>
        <p:spPr>
          <a:xfrm>
            <a:off x="4429080" y="2286000"/>
            <a:ext cx="4435560" cy="3548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duck didn’t let Charlie go. One day the duckling ran away and started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ploring the woo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lived in the wood the astute fox:  Róka Re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artalom helye 3" descr="t%C3%BCsi-erd%C5%9102blog.jpg"/>
          <p:cNvPicPr/>
          <p:nvPr/>
        </p:nvPicPr>
        <p:blipFill>
          <a:blip r:embed="rId1"/>
          <a:stretch/>
        </p:blipFill>
        <p:spPr>
          <a:xfrm>
            <a:off x="1552680" y="1785960"/>
            <a:ext cx="5805360" cy="399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ka Rex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icke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 duckling to follow him, and when they arrived at the cave of Róka Rex, he ate the little silly ani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artalom helye 3" descr="05istallosko-barlang3.jpg"/>
          <p:cNvPicPr/>
          <p:nvPr/>
        </p:nvPicPr>
        <p:blipFill>
          <a:blip r:embed="rId1"/>
          <a:stretch/>
        </p:blipFill>
        <p:spPr>
          <a:xfrm>
            <a:off x="1643040" y="20350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Fox was still hungry and soon left the cave to go to the village. Róka Rex hoped to find there many ducklings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village there were lots of ducks and duckl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artalom helye 3" descr="falu.jpg"/>
          <p:cNvPicPr/>
          <p:nvPr/>
        </p:nvPicPr>
        <p:blipFill>
          <a:blip r:embed="rId1"/>
          <a:stretch/>
        </p:blipFill>
        <p:spPr>
          <a:xfrm>
            <a:off x="1523880" y="2192400"/>
            <a:ext cx="6096240" cy="3343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ka Rex thought he was  in paradise. But many men appeared with guns and shot the bad fox. And they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ved happily ever after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rtalom helye 3" descr="roka1.jpg"/>
          <p:cNvPicPr/>
          <p:nvPr/>
        </p:nvPicPr>
        <p:blipFill>
          <a:blip r:embed="rId1"/>
          <a:stretch/>
        </p:blipFill>
        <p:spPr>
          <a:xfrm>
            <a:off x="2666880" y="2376360"/>
            <a:ext cx="4095720" cy="3195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artalom helye 5" descr="P1010348.JPG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7" name="Téglalap 4" descr=""/>
          <p:cNvPicPr/>
          <p:nvPr/>
        </p:nvPicPr>
        <p:blipFill>
          <a:blip r:embed="rId2"/>
          <a:stretch/>
        </p:blipFill>
        <p:spPr>
          <a:xfrm>
            <a:off x="1195560" y="304920"/>
            <a:ext cx="6437160" cy="1438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42:59Z</dcterms:created>
  <dc:creator>abc</dc:creator>
  <dc:description/>
  <dc:language>en-US</dc:language>
  <cp:lastModifiedBy>abc</cp:lastModifiedBy>
  <dcterms:modified xsi:type="dcterms:W3CDTF">2010-02-23T22:15:37Z</dcterms:modified>
  <cp:revision>4</cp:revision>
  <dc:subject/>
  <dc:title>1. dia</dc:title>
</cp:coreProperties>
</file>